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1513B-E147-419A-8A7A-56CFD89292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B826C-E809-4A50-B659-80518D3A7B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F026-2C53-440B-A0E9-8C6EDE536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0B57-1DC4-4F12-8F4D-B0090A0D6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9724-7BAC-4C2F-914E-CA624CB43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1FE8-FB9A-48EA-B3C8-D11139657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99EF-4AD1-4D09-892D-CAE9CFAD7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9207-C6C8-4821-8BD5-0F2B1A808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F0A2-2699-4532-A69B-FF283469B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5093-00C9-4ED6-9AB8-D0F0F8830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C9BA-1253-42CC-90E6-7E8F74678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741E-6490-4178-8298-FCC7D6EE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DE83-E79D-44BF-8BD7-DD34CE0D7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6E4D-4DE9-424A-ADC9-7899A28EE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0FFFD-A080-4E7B-9E28-CF50C0CA69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Me llamo __________ Clase 802 </a:t>
            </a:r>
            <a:br>
              <a:rPr sz="3200"/>
            </a:b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La fecha es el primero de diciembre del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7631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0000"/>
                </a:solidFill>
                <a:latin typeface="Arial"/>
              </a:rPr>
              <a:t>Propósito # 30: 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¿Cómo terminamos el repaso para la prueba del miercol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rar GRAMATICA EN VI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mar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apuntes activ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letar los ejercicios del vide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- Conjuga los siguientes verbos EN FORMA DE BO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end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to understa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ti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to fee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ga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to pl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to cou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3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I-Copia y completa con la forma correc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Yo no _________ los libros. (perd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arco _________ mas tareas. (quer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icardo me __________ a llamar (volv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sotros __________ estudiar mas (pod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rlos y Rosa ___________a las nueve. (dormi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ú ___________ mucho. (menti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osotros ____________ béisbol. (jug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Yo _________ la historia. (cont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2T15:54:37Z</dcterms:created>
  <dc:creator>Helen Zumaeta</dc:creator>
  <dc:description/>
  <dc:language>en-US</dc:language>
  <cp:lastModifiedBy>Helen Zumaeta</cp:lastModifiedBy>
  <dcterms:modified xsi:type="dcterms:W3CDTF">2014-12-01T23:14:28Z</dcterms:modified>
  <cp:revision>15</cp:revision>
  <dc:subject/>
  <dc:title>Me llamo __________ Clase 6 nh/il La fecha es el 11 de mayo del 2011</dc:title>
</cp:coreProperties>
</file>